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318A-ECFD-40F3-9CB5-207E985A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2491-12A7-422A-8B20-58063EAF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DCE2-3C68-4201-A839-8AC2EE4B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8C58-D246-4F25-919F-38DEBEAC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5DBE-DBB5-46EC-A12B-C12D4BB0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32FF-826E-42A5-A9A3-8EB77EDA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A0B2-CE32-4304-B54A-93BEF411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0482-7384-403C-8F13-4C21E037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DE24-9CE0-41A5-98CE-626D4760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5D1F-4038-41B8-9B4E-92D8791F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3C7D-0FFD-43B9-B165-6B5B14A1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CDF6-8EA5-40D3-9466-B5388B78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F905-7DEF-4C61-AD06-3FA61DB3B5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22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 BT"/>
              </a:rPr>
              <a:t>Little Rock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roadway BT"/>
              </a:rPr>
              <a:t>Then and 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little_rock_ark_1920"/>
          <p:cNvPicPr/>
          <p:nvPr/>
        </p:nvPicPr>
        <p:blipFill>
          <a:blip r:embed="rId1"/>
          <a:stretch/>
        </p:blipFill>
        <p:spPr>
          <a:xfrm>
            <a:off x="1143000" y="1752480"/>
            <a:ext cx="6562800" cy="456264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968760" y="1143000"/>
            <a:ext cx="21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 BT"/>
              </a:rPr>
              <a:t>Little Rock in 19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Map"/>
          <p:cNvPicPr/>
          <p:nvPr/>
        </p:nvPicPr>
        <p:blipFill>
          <a:blip r:embed="rId1"/>
          <a:stretch/>
        </p:blipFill>
        <p:spPr>
          <a:xfrm>
            <a:off x="1600200" y="990720"/>
            <a:ext cx="5477040" cy="44766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6274440" y="586728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 BT"/>
              </a:rPr>
              <a:t>Little Rock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old-state-house"/>
          <p:cNvPicPr/>
          <p:nvPr/>
        </p:nvPicPr>
        <p:blipFill>
          <a:blip r:embed="rId1"/>
          <a:stretch/>
        </p:blipFill>
        <p:spPr>
          <a:xfrm>
            <a:off x="3657600" y="228600"/>
            <a:ext cx="4648320" cy="3481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Old State Capitol, Little Rock, Arkansas Historic Photo"/>
          <p:cNvPicPr/>
          <p:nvPr/>
        </p:nvPicPr>
        <p:blipFill>
          <a:blip r:embed="rId2"/>
          <a:stretch/>
        </p:blipFill>
        <p:spPr>
          <a:xfrm>
            <a:off x="4419720" y="4038480"/>
            <a:ext cx="4267080" cy="2443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Oberste%202_thumb"/>
          <p:cNvPicPr/>
          <p:nvPr/>
        </p:nvPicPr>
        <p:blipFill>
          <a:blip r:embed="rId3"/>
          <a:stretch/>
        </p:blipFill>
        <p:spPr>
          <a:xfrm>
            <a:off x="380880" y="3581280"/>
            <a:ext cx="3751560" cy="2286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749160" y="5791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 BT"/>
              </a:rPr>
              <a:t>18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7607160" y="64882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 BT"/>
              </a:rPr>
              <a:t>19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620280" y="137160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 BT"/>
              </a:rPr>
              <a:t>The Old State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6253920" y="3581280"/>
            <a:ext cx="8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 BT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Main+Street+Little+Rock+Arkansas"/>
          <p:cNvPicPr/>
          <p:nvPr/>
        </p:nvPicPr>
        <p:blipFill>
          <a:blip r:embed="rId1"/>
          <a:stretch/>
        </p:blipFill>
        <p:spPr>
          <a:xfrm>
            <a:off x="0" y="0"/>
            <a:ext cx="5045040" cy="327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Main Street: 1910"/>
          <p:cNvPicPr/>
          <p:nvPr/>
        </p:nvPicPr>
        <p:blipFill>
          <a:blip r:embed="rId2"/>
          <a:stretch/>
        </p:blipFill>
        <p:spPr>
          <a:xfrm>
            <a:off x="4419720" y="3129120"/>
            <a:ext cx="4352760" cy="352872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997920" y="4343400"/>
            <a:ext cx="147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 BT"/>
              </a:rPr>
              <a:t>Main Stre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5168880" y="22860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 BT"/>
              </a:rPr>
              <a:t>19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3568680" y="6248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 BT"/>
              </a:rPr>
              <a:t>1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22:15:10Z</dcterms:created>
  <dc:creator>admin</dc:creator>
  <dc:description/>
  <dc:language>en-US</dc:language>
  <cp:lastModifiedBy>admin</cp:lastModifiedBy>
  <dcterms:modified xsi:type="dcterms:W3CDTF">2015-06-23T19:41:00Z</dcterms:modified>
  <cp:revision>2</cp:revision>
  <dc:subject/>
  <dc:title>Little Rock Then and Now</dc:title>
</cp:coreProperties>
</file>